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99A-7236-4982-92D9-69226EE7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152-20D9-432E-BBA0-750B089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7AF-0268-48CB-B77E-144E2DCA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3E7-6280-4228-A14E-27B950FB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1882-5FAD-4215-A8CF-5CF27AEC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5B6A-7C2A-44F5-8D05-5DB5B8C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2A9F-43D6-49BA-99BB-4F2F225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37AA-11C4-462F-AA07-F389DD99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EF67-3B3B-4148-9479-38DFF50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ED2-2BB1-40A6-82C2-CEFA8295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5429-BF08-4699-89B2-66EB11A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FF7-93DF-49D2-88A7-02D26416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F29-780B-4876-93E6-49F6D1F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5B6E-B434-4B9E-A35C-CBBB848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FCE0-8E37-40FA-B888-5AAC02D3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EE6A-1D48-4B94-BA4D-6846AA8C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D268-F903-48C9-9D5D-59946920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502-EC37-428C-8B32-76BC497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CA-3EA5-46A7-90C4-808C90F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725-650B-4C36-97BB-5F45D374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B25-0225-4904-A458-76D06D7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4A6-86D8-46B7-8182-E685C64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895-60A8-4F0C-ACFA-3CA7D12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E9C-7A84-4762-B03E-6A6C0D6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358-2F1D-4619-8A1D-98FFEC58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9BD7-63C6-4C07-9F50-D2AAE028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66ff33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3808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rry &amp; Goof!!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5309640" y="3071520"/>
            <a:ext cx="6019920" cy="109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OTDOG productions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bite_me_toilet_300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Color: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Book: Double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Author:  Jacqueline  Wil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Food: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Animal: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obbies: Horse riding, Cherry &amp; Goof s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avorite movie: Grown 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ge: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air Color: Bl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1194986264946147517cherry_jonathan_dietrich_01.svg.med" descr="Cherry Clip Art"/>
          <p:cNvPicPr/>
          <p:nvPr/>
        </p:nvPicPr>
        <p:blipFill>
          <a:blip r:embed="rId2"/>
          <a:stretch/>
        </p:blipFill>
        <p:spPr>
          <a:xfrm>
            <a:off x="1519200" y="1981080"/>
            <a:ext cx="31179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Cher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OOF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Color: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Book: Famous 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Author: Enid Bly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Food: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Animal: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bbies: Jazz, Cherry &amp; Go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vorite movie: Tit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: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ir Color: Bl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miley_psychotic_sticker-p217586278362347030qjcl_400" descr=""/>
          <p:cNvPicPr/>
          <p:nvPr/>
        </p:nvPicPr>
        <p:blipFill>
          <a:blip r:embed="rId1"/>
          <a:stretch/>
        </p:blipFill>
        <p:spPr>
          <a:xfrm>
            <a:off x="117324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9dea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248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herry’s favorite An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orses-gallop" descr="picture of white horses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52480" y="228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fs favorite anim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dog_027" descr="Orkut Scraps - Dogs"/>
          <p:cNvPicPr/>
          <p:nvPr/>
        </p:nvPicPr>
        <p:blipFill>
          <a:blip r:embed="rId2"/>
          <a:stretch/>
        </p:blipFill>
        <p:spPr>
          <a:xfrm>
            <a:off x="1676520" y="990720"/>
            <a:ext cx="62481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00400" y="152280"/>
            <a:ext cx="1066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1523880"/>
            <a:ext cx="48006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If you liked what seen so far abo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Cherry &amp; Goof watch episodes on Friday at 6pm at www.cherry&amp;goof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28-Pug-Faced-Dog-Horse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047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600200" y="0"/>
            <a:ext cx="6934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TCH'YA LAT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5" name="horse-smiling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3:44:51Z</dcterms:created>
  <dc:creator> Rob</dc:creator>
  <dc:description/>
  <dc:language>en-US</dc:language>
  <cp:lastModifiedBy> Rob</cp:lastModifiedBy>
  <dcterms:modified xsi:type="dcterms:W3CDTF">2011-04-04T03:31:21Z</dcterms:modified>
  <cp:revision>11</cp:revision>
  <dc:subject/>
  <dc:title>PowerPoint Presentation</dc:title>
</cp:coreProperties>
</file>